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84.png" ContentType="image/png"/>
  <Override PartName="/ppt/media/image40.wmf" ContentType="image/x-wmf"/>
  <Override PartName="/ppt/media/image83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65.wmf" ContentType="image/x-wmf"/>
  <Override PartName="/ppt/media/image82.png" ContentType="image/png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4721-16D3-49E0-A407-F6FFDAE45D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EE35-6091-4DF4-9E7D-3D1E7A4AD2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6CEA-8B6C-4DAC-983A-9D2CF89DEB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305-1635-495F-9C50-385D1185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908-BAB5-4122-A31D-7A53E4D5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B96-0834-47C8-81A3-42447ECC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0D8-06A8-4A14-B97C-926B8DBD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64DD-9F57-483F-A978-EF32DD18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83D9-D654-40C3-A61F-21515ED9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2AD7-CD2E-4541-93E8-0AAFB31A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56B7-3DFD-4D45-B678-1A5CE618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6A1C-D7CA-4EE2-8F8E-D73CD3C2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FB53-0287-49FE-9895-0EB01A44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15D4-B1B7-4C18-A33C-7F710EF2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715-5A08-4978-AAC6-B413E8A7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22DB-1E62-45AB-9E02-C9CA4A0F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8BC4-5E6E-4AAD-AC0C-80D41A3E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9091-78CC-40B0-B4E3-DF66BEBF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9956-2343-4A07-ADDB-3A8D42A9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D710-7DB0-40F4-9842-DAC7F7CA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C21-0C8B-4D27-9CBE-647329DC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A92-42B6-4CCF-81A9-A514C340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F99-71BF-4720-A082-D4BBD4B3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2E3-BF35-4540-AB24-807C760F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6D5-5D22-4350-BD17-87B8AB5D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2DC-98E6-4833-8350-1BD24274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74C-5C96-4A82-A927-023D1B97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DBF5-FBBF-4F9D-8D62-DB0BFAEF34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17E4-1B5C-459B-8900-76AAC88790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6.wm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1.wmf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319040"/>
            <a:ext cx="807696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. Базис 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284640"/>
            <a:ext cx="662940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инейные векторные простран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инейная зависимость век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азис и размерность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еобразование координ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трица пере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14200" y="1356840"/>
            <a:ext cx="8429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юбой элемент      линейного пространства           разлагается по базису                          этого пространства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единственны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Доказательство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едположим   обратное, пусть элемент        разлагается по базису                   двумя различными способами:               </a:t>
            </a: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4608360" y="1714680"/>
          <a:ext cx="32076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171468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"/>
          <p:cNvGraphicFramePr/>
          <p:nvPr/>
        </p:nvGraphicFramePr>
        <p:xfrm>
          <a:off x="2928960" y="221472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221472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4"/>
          <p:cNvGraphicFramePr/>
          <p:nvPr/>
        </p:nvGraphicFramePr>
        <p:xfrm>
          <a:off x="6858000" y="2143080"/>
          <a:ext cx="14540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2143080"/>
                    <a:ext cx="1454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5"/>
          <p:cNvGraphicFramePr/>
          <p:nvPr/>
        </p:nvGraphicFramePr>
        <p:xfrm>
          <a:off x="2928960" y="4286160"/>
          <a:ext cx="32076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428616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6"/>
          <p:cNvGraphicFramePr/>
          <p:nvPr/>
        </p:nvGraphicFramePr>
        <p:xfrm>
          <a:off x="6715080" y="4143240"/>
          <a:ext cx="145404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15080" y="4143240"/>
                    <a:ext cx="14540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2905200" y="5214960"/>
          <a:ext cx="4052880" cy="100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05200" y="5214960"/>
                    <a:ext cx="40528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357120" y="1285920"/>
          <a:ext cx="511992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285920"/>
                    <a:ext cx="51199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380880" y="2654280"/>
          <a:ext cx="826452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654280"/>
                    <a:ext cx="82645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Box 7"/>
          <p:cNvSpPr/>
          <p:nvPr/>
        </p:nvSpPr>
        <p:spPr>
          <a:xfrm>
            <a:off x="504720" y="3214800"/>
            <a:ext cx="801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 силу линейной независимости базисных эле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, равенство               справедливо  тольк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только тогда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714240" y="3714840"/>
          <a:ext cx="145440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240" y="3714840"/>
                    <a:ext cx="14544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5"/>
          <p:cNvGraphicFramePr/>
          <p:nvPr/>
        </p:nvGraphicFramePr>
        <p:xfrm>
          <a:off x="4071960" y="3714840"/>
          <a:ext cx="72540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1960" y="3714840"/>
                    <a:ext cx="725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6"/>
          <p:cNvGraphicFramePr/>
          <p:nvPr/>
        </p:nvGraphicFramePr>
        <p:xfrm>
          <a:off x="571680" y="4714920"/>
          <a:ext cx="5740200" cy="56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680" y="4714920"/>
                    <a:ext cx="57402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Object 7"/>
          <p:cNvGraphicFramePr/>
          <p:nvPr/>
        </p:nvGraphicFramePr>
        <p:xfrm>
          <a:off x="571680" y="5357880"/>
          <a:ext cx="4162320" cy="56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680" y="5357880"/>
                    <a:ext cx="4162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Box 13"/>
          <p:cNvSpPr/>
          <p:nvPr/>
        </p:nvSpPr>
        <p:spPr>
          <a:xfrm>
            <a:off x="4997520" y="535788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Теорема доказ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56760" y="1357200"/>
            <a:ext cx="8286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з этих равенств, в силу аксиом 1-8 линейного векторного пространства, 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Object 2"/>
          <p:cNvGraphicFramePr/>
          <p:nvPr/>
        </p:nvGraphicFramePr>
        <p:xfrm>
          <a:off x="560520" y="4857840"/>
          <a:ext cx="763272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4857840"/>
                    <a:ext cx="763272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3"/>
          <p:cNvGraphicFramePr/>
          <p:nvPr/>
        </p:nvGraphicFramePr>
        <p:xfrm>
          <a:off x="1913040" y="5643720"/>
          <a:ext cx="5506920" cy="56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3040" y="5643720"/>
                    <a:ext cx="550692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Box 9"/>
          <p:cNvSpPr/>
          <p:nvPr/>
        </p:nvSpPr>
        <p:spPr>
          <a:xfrm>
            <a:off x="642960" y="1668600"/>
            <a:ext cx="802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 элементы                          линейного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ложены по баз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5"/>
          <p:cNvGraphicFramePr/>
          <p:nvPr/>
        </p:nvGraphicFramePr>
        <p:xfrm>
          <a:off x="3500280" y="1778040"/>
          <a:ext cx="1285920" cy="3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0280" y="1778040"/>
                    <a:ext cx="128592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6"/>
          <p:cNvGraphicFramePr/>
          <p:nvPr/>
        </p:nvGraphicFramePr>
        <p:xfrm>
          <a:off x="2928960" y="2071800"/>
          <a:ext cx="352440" cy="42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207180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7"/>
          <p:cNvGraphicFramePr/>
          <p:nvPr/>
        </p:nvGraphicFramePr>
        <p:xfrm>
          <a:off x="4572000" y="2286000"/>
          <a:ext cx="159372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2286000"/>
                    <a:ext cx="1593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8"/>
          <p:cNvGraphicFramePr/>
          <p:nvPr/>
        </p:nvGraphicFramePr>
        <p:xfrm>
          <a:off x="2571840" y="3000240"/>
          <a:ext cx="3665520" cy="912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1840" y="3000240"/>
                    <a:ext cx="366552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71680" y="14288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венство (1) означает, что при сложении двух элементов линейного пространства           их координаты склады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венство (2) означает, что при умножении элемента линейного пространства        на некоторое число         координаты этого элемента умножаются на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Object 3"/>
          <p:cNvGraphicFramePr/>
          <p:nvPr/>
        </p:nvGraphicFramePr>
        <p:xfrm>
          <a:off x="6286680" y="2071800"/>
          <a:ext cx="3520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2071800"/>
                    <a:ext cx="3520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4"/>
          <p:cNvGraphicFramePr/>
          <p:nvPr/>
        </p:nvGraphicFramePr>
        <p:xfrm>
          <a:off x="4572000" y="372096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72096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8" name="Объект 6"/>
              <p:cNvSpPr txBox="1"/>
              <p:nvPr/>
            </p:nvSpPr>
            <p:spPr>
              <a:xfrm>
                <a:off x="8001000" y="380196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9" name="Object 6"/>
          <p:cNvGraphicFramePr/>
          <p:nvPr/>
        </p:nvGraphicFramePr>
        <p:xfrm>
          <a:off x="7358040" y="4286160"/>
          <a:ext cx="36504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58040" y="4286160"/>
                    <a:ext cx="3650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мерность линейного простра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56760" y="1356840"/>
            <a:ext cx="8286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линейное простр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меет базис,  состоящий из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лементов, то это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ывается размерностью линейного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а само пространство называется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ер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ым или векторным простра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мерность линейного пространства           обозначается через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152e"/>
                </a:solidFill>
                <a:latin typeface="Arial"/>
              </a:rPr>
              <a:t>dim L.</a:t>
            </a:r>
            <a:r>
              <a:rPr b="1" i="1" lang="ru-RU" sz="2400" spc="-1" strike="noStrike">
                <a:solidFill>
                  <a:srgbClr val="00152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3"/>
          <p:cNvGraphicFramePr/>
          <p:nvPr/>
        </p:nvGraphicFramePr>
        <p:xfrm>
          <a:off x="7858080" y="1643040"/>
          <a:ext cx="3524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164304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642960" y="342900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342900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0"/>
          <p:cNvGraphicFramePr/>
          <p:nvPr/>
        </p:nvGraphicFramePr>
        <p:xfrm>
          <a:off x="6072120" y="464328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72120" y="464328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мерность линейного простра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56760" y="1356840"/>
            <a:ext cx="8286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ое пространство, в котором не существует бази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ывется бесконечномерным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линейном пространстве любые два базиса содержат  одинаковое число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мерность линейного пространства всех векторов плоскости равна дв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мерность линейного пространства всех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а равна тр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мерность линейного пространства          ра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Object 3"/>
          <p:cNvGraphicFramePr/>
          <p:nvPr/>
        </p:nvGraphicFramePr>
        <p:xfrm>
          <a:off x="8143920" y="5214960"/>
          <a:ext cx="38412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920" y="5214960"/>
                    <a:ext cx="3841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8"/>
          <p:cNvGraphicFramePr/>
          <p:nvPr/>
        </p:nvGraphicFramePr>
        <p:xfrm>
          <a:off x="6429240" y="5072040"/>
          <a:ext cx="51300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240" y="5072040"/>
                    <a:ext cx="5130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4"/>
          <p:cNvGraphicFramePr/>
          <p:nvPr/>
        </p:nvGraphicFramePr>
        <p:xfrm>
          <a:off x="11858760" y="307188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58760" y="307188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ход от одного базиса к друг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357120" y="1428840"/>
            <a:ext cx="8286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                    и                               два произво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азиса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n-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ерного линейного пространства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лементы                             разложим по  баз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7"/>
          <p:cNvGraphicFramePr/>
          <p:nvPr/>
        </p:nvGraphicFramePr>
        <p:xfrm>
          <a:off x="1357200" y="1495440"/>
          <a:ext cx="14544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1495440"/>
                    <a:ext cx="14544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6"/>
          <p:cNvGraphicFramePr/>
          <p:nvPr/>
        </p:nvGraphicFramePr>
        <p:xfrm>
          <a:off x="3357720" y="1382760"/>
          <a:ext cx="1928520" cy="61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1382760"/>
                    <a:ext cx="192852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8"/>
          <p:cNvGraphicFramePr/>
          <p:nvPr/>
        </p:nvGraphicFramePr>
        <p:xfrm>
          <a:off x="6858000" y="2000160"/>
          <a:ext cx="51264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2000160"/>
                    <a:ext cx="512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5"/>
          <p:cNvGraphicFramePr/>
          <p:nvPr/>
        </p:nvGraphicFramePr>
        <p:xfrm>
          <a:off x="500040" y="3143160"/>
          <a:ext cx="145404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040" y="3143160"/>
                    <a:ext cx="14540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9"/>
          <p:cNvGraphicFramePr/>
          <p:nvPr/>
        </p:nvGraphicFramePr>
        <p:xfrm>
          <a:off x="2143080" y="2571840"/>
          <a:ext cx="1928880" cy="61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3080" y="2571840"/>
                    <a:ext cx="19288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1"/>
          <p:cNvGraphicFramePr/>
          <p:nvPr/>
        </p:nvGraphicFramePr>
        <p:xfrm>
          <a:off x="2428920" y="3643200"/>
          <a:ext cx="4360680" cy="2019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28920" y="3643200"/>
                    <a:ext cx="43606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ход от одного базиса к друг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357120" y="1428840"/>
            <a:ext cx="8286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7"/>
          <p:cNvGraphicFramePr/>
          <p:nvPr/>
        </p:nvGraphicFramePr>
        <p:xfrm>
          <a:off x="2863800" y="1571760"/>
          <a:ext cx="273852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3800" y="1571760"/>
                    <a:ext cx="273852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Box 11"/>
          <p:cNvSpPr/>
          <p:nvPr/>
        </p:nvSpPr>
        <p:spPr>
          <a:xfrm>
            <a:off x="718200" y="178596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озна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2"/>
          <p:cNvSpPr/>
          <p:nvPr/>
        </p:nvSpPr>
        <p:spPr>
          <a:xfrm>
            <a:off x="434880" y="4071960"/>
            <a:ext cx="776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атрицу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называют матрицей перехода от  нов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азиса к  старому базису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пределитель этой матрицы отличен от ну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28760" y="1599840"/>
            <a:ext cx="8286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Замечание 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ждый вектор          пространства  имеет координаты как в старом базисе, так и в но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торое связывает координаты                                      вектора                                 в старом базисе и координаты      вектора        в новом базисе, где          –  матрица перехода от нового базиса к стар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ход от одного базиса к друг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Object 8"/>
          <p:cNvGraphicFramePr/>
          <p:nvPr/>
        </p:nvGraphicFramePr>
        <p:xfrm>
          <a:off x="5572080" y="1928880"/>
          <a:ext cx="32076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92888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3"/>
          <p:cNvGraphicFramePr/>
          <p:nvPr/>
        </p:nvGraphicFramePr>
        <p:xfrm>
          <a:off x="8143920" y="185724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43920" y="185724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0"/>
          <p:cNvGraphicFramePr/>
          <p:nvPr/>
        </p:nvGraphicFramePr>
        <p:xfrm>
          <a:off x="4357800" y="3000240"/>
          <a:ext cx="42685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7800" y="3000240"/>
                    <a:ext cx="4268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3"/>
          <p:cNvGraphicFramePr/>
          <p:nvPr/>
        </p:nvGraphicFramePr>
        <p:xfrm>
          <a:off x="5572080" y="3500280"/>
          <a:ext cx="17859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72080" y="3500280"/>
                    <a:ext cx="1785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4"/>
          <p:cNvGraphicFramePr/>
          <p:nvPr/>
        </p:nvGraphicFramePr>
        <p:xfrm>
          <a:off x="4286160" y="4643280"/>
          <a:ext cx="320760" cy="35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6160" y="4643280"/>
                    <a:ext cx="32076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15"/>
          <p:cNvGraphicFramePr/>
          <p:nvPr/>
        </p:nvGraphicFramePr>
        <p:xfrm>
          <a:off x="7858080" y="4500720"/>
          <a:ext cx="503280" cy="53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1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58080" y="4500720"/>
                    <a:ext cx="503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18"/>
          <p:cNvGraphicFramePr/>
          <p:nvPr/>
        </p:nvGraphicFramePr>
        <p:xfrm>
          <a:off x="2500200" y="4071960"/>
          <a:ext cx="178596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3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0200" y="4071960"/>
                    <a:ext cx="1785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ВКЛИДОВЫ  ПРОСТРАН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56760" y="1357200"/>
            <a:ext cx="82868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Определ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калярным  произведением  векторов         и           линейного векторного пространства          называется число, обозначаемо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удовлетворяющее следующим услов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2.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8"/>
          <p:cNvGraphicFramePr/>
          <p:nvPr/>
        </p:nvGraphicFramePr>
        <p:xfrm>
          <a:off x="2286000" y="2286000"/>
          <a:ext cx="32076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7"/>
          <p:cNvGraphicFramePr/>
          <p:nvPr/>
        </p:nvGraphicFramePr>
        <p:xfrm>
          <a:off x="3286080" y="2214720"/>
          <a:ext cx="32076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2214720"/>
                    <a:ext cx="3207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3"/>
          <p:cNvGraphicFramePr/>
          <p:nvPr/>
        </p:nvGraphicFramePr>
        <p:xfrm>
          <a:off x="2928960" y="278604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28960" y="278604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0"/>
          <p:cNvGraphicFramePr/>
          <p:nvPr/>
        </p:nvGraphicFramePr>
        <p:xfrm>
          <a:off x="785880" y="3286080"/>
          <a:ext cx="89676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5880" y="3286080"/>
                    <a:ext cx="8967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11"/>
          <p:cNvGraphicFramePr/>
          <p:nvPr/>
        </p:nvGraphicFramePr>
        <p:xfrm>
          <a:off x="785880" y="4000680"/>
          <a:ext cx="20113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6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5880" y="4000680"/>
                    <a:ext cx="20113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3"/>
          <p:cNvGraphicFramePr/>
          <p:nvPr/>
        </p:nvGraphicFramePr>
        <p:xfrm>
          <a:off x="2928960" y="4000680"/>
          <a:ext cx="1490760" cy="475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9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28960" y="4000680"/>
                    <a:ext cx="1490760" cy="47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15"/>
          <p:cNvGraphicFramePr/>
          <p:nvPr/>
        </p:nvGraphicFramePr>
        <p:xfrm>
          <a:off x="857160" y="4572000"/>
          <a:ext cx="360216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57160" y="4572000"/>
                    <a:ext cx="36021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17"/>
          <p:cNvGraphicFramePr/>
          <p:nvPr/>
        </p:nvGraphicFramePr>
        <p:xfrm>
          <a:off x="4602240" y="4595760"/>
          <a:ext cx="1755720" cy="476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5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02240" y="4595760"/>
                    <a:ext cx="1755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19"/>
          <p:cNvGraphicFramePr/>
          <p:nvPr/>
        </p:nvGraphicFramePr>
        <p:xfrm>
          <a:off x="857160" y="5214960"/>
          <a:ext cx="2449440" cy="476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8" name="Object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57160" y="5214960"/>
                    <a:ext cx="24494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21"/>
          <p:cNvGraphicFramePr/>
          <p:nvPr/>
        </p:nvGraphicFramePr>
        <p:xfrm>
          <a:off x="3514680" y="5240160"/>
          <a:ext cx="2776680" cy="474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1" name="Object 2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14680" y="5240160"/>
                    <a:ext cx="27766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24"/>
          <p:cNvGraphicFramePr/>
          <p:nvPr/>
        </p:nvGraphicFramePr>
        <p:xfrm>
          <a:off x="2786040" y="5786280"/>
          <a:ext cx="1143000" cy="476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4" name="Object 2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86040" y="5786280"/>
                    <a:ext cx="1143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26"/>
          <p:cNvGraphicFramePr/>
          <p:nvPr/>
        </p:nvGraphicFramePr>
        <p:xfrm>
          <a:off x="1000080" y="5786280"/>
          <a:ext cx="1413000" cy="476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6" name="Object 2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00080" y="5786280"/>
                    <a:ext cx="1413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ножеств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зывается линейным векторным пространством,  если для любых его элементов 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, называемых  векторами  этого  пространства,  и любого действительного числа 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ак  определены  в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ы  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,  что верны следующие аксио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Объект 4"/>
              <p:cNvSpPr txBox="1"/>
              <p:nvPr/>
            </p:nvSpPr>
            <p:spPr>
              <a:xfrm>
                <a:off x="2124000" y="2565360"/>
                <a:ext cx="2811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Объект 5"/>
              <p:cNvSpPr txBox="1"/>
              <p:nvPr/>
            </p:nvSpPr>
            <p:spPr>
              <a:xfrm>
                <a:off x="2916360" y="2522520"/>
                <a:ext cx="2808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Объект 6"/>
              <p:cNvSpPr txBox="1"/>
              <p:nvPr/>
            </p:nvSpPr>
            <p:spPr>
              <a:xfrm>
                <a:off x="7502400" y="301608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Объект 7"/>
              <p:cNvSpPr txBox="1"/>
              <p:nvPr/>
            </p:nvSpPr>
            <p:spPr>
              <a:xfrm>
                <a:off x="4356000" y="3573360"/>
                <a:ext cx="7588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8"/>
              <p:cNvSpPr txBox="1"/>
              <p:nvPr/>
            </p:nvSpPr>
            <p:spPr>
              <a:xfrm>
                <a:off x="5916600" y="3573360"/>
                <a:ext cx="6476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ВКЛИДОВЫ  ПРОСТРАН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"/>
          <p:cNvGraphicFramePr/>
          <p:nvPr/>
        </p:nvGraphicFramePr>
        <p:xfrm>
          <a:off x="428760" y="1285920"/>
          <a:ext cx="145404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285920"/>
                    <a:ext cx="14540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TextBox 6"/>
          <p:cNvSpPr/>
          <p:nvPr/>
        </p:nvSpPr>
        <p:spPr>
          <a:xfrm>
            <a:off x="357120" y="1322280"/>
            <a:ext cx="835812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огда, ког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улевой эле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а  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ое векторное пространство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котором определено скалярное 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ов,  называется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евклидовым пространс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о            является евклидовым, так как о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ое векторное и в нем определено скаляр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изведение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4"/>
          <p:cNvGraphicFramePr/>
          <p:nvPr/>
        </p:nvGraphicFramePr>
        <p:xfrm>
          <a:off x="4143240" y="1357200"/>
          <a:ext cx="65880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240" y="1357200"/>
                    <a:ext cx="658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3"/>
          <p:cNvGraphicFramePr/>
          <p:nvPr/>
        </p:nvGraphicFramePr>
        <p:xfrm>
          <a:off x="2643120" y="178596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178596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8"/>
          <p:cNvGraphicFramePr/>
          <p:nvPr/>
        </p:nvGraphicFramePr>
        <p:xfrm>
          <a:off x="7858080" y="2357280"/>
          <a:ext cx="352440" cy="42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58080" y="235728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9"/>
          <p:cNvGraphicFramePr/>
          <p:nvPr/>
        </p:nvGraphicFramePr>
        <p:xfrm>
          <a:off x="2714760" y="4143240"/>
          <a:ext cx="493560" cy="47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14760" y="4143240"/>
                    <a:ext cx="4935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5480" y="1428480"/>
            <a:ext cx="82486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любом евклидовом пространстве опреде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длину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вект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асстояние между двумя вектор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синус угла   между векторами        и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8"/>
          <p:cNvGraphicFramePr/>
          <p:nvPr/>
        </p:nvGraphicFramePr>
        <p:xfrm>
          <a:off x="3143160" y="2143080"/>
          <a:ext cx="151776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2143080"/>
                    <a:ext cx="15177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7"/>
          <p:cNvGraphicFramePr/>
          <p:nvPr/>
        </p:nvGraphicFramePr>
        <p:xfrm>
          <a:off x="3214800" y="3357720"/>
          <a:ext cx="1984320" cy="52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3357720"/>
                    <a:ext cx="198432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6"/>
          <p:cNvGraphicFramePr/>
          <p:nvPr/>
        </p:nvGraphicFramePr>
        <p:xfrm>
          <a:off x="-1643040" y="1500120"/>
          <a:ext cx="142920" cy="1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643040" y="1500120"/>
                    <a:ext cx="1429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5"/>
          <p:cNvGraphicFramePr/>
          <p:nvPr/>
        </p:nvGraphicFramePr>
        <p:xfrm>
          <a:off x="5572080" y="4102200"/>
          <a:ext cx="284040" cy="32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72080" y="4102200"/>
                    <a:ext cx="28404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3"/>
          <p:cNvGraphicFramePr/>
          <p:nvPr/>
        </p:nvGraphicFramePr>
        <p:xfrm>
          <a:off x="3929040" y="4714920"/>
          <a:ext cx="1571760" cy="81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9040" y="4714920"/>
                    <a:ext cx="15717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2"/>
          <p:cNvGraphicFramePr/>
          <p:nvPr/>
        </p:nvGraphicFramePr>
        <p:xfrm>
          <a:off x="-1071720" y="1928880"/>
          <a:ext cx="371520" cy="1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3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-1071720" y="1928880"/>
                    <a:ext cx="37152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14"/>
          <p:cNvSpPr/>
          <p:nvPr/>
        </p:nvSpPr>
        <p:spPr>
          <a:xfrm>
            <a:off x="4692600" y="1267920"/>
            <a:ext cx="21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7"/>
          <p:cNvSpPr/>
          <p:nvPr/>
        </p:nvSpPr>
        <p:spPr>
          <a:xfrm>
            <a:off x="2520" y="2339280"/>
            <a:ext cx="25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ВКЛИДОВЫ  ПРОСТРАН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Object 18"/>
          <p:cNvGraphicFramePr/>
          <p:nvPr/>
        </p:nvGraphicFramePr>
        <p:xfrm>
          <a:off x="6357960" y="4057560"/>
          <a:ext cx="301680" cy="443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57960" y="4057560"/>
                    <a:ext cx="30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ртогональные элементы. Ортонормированный бази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56760" y="1571400"/>
            <a:ext cx="81774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азис                        евклид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а        называется ортогональным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 любых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ртогональный  баз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вклидова  пространства          наз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ортонормированны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 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4"/>
          <p:cNvGraphicFramePr/>
          <p:nvPr/>
        </p:nvGraphicFramePr>
        <p:xfrm>
          <a:off x="3857760" y="1568520"/>
          <a:ext cx="15080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1568520"/>
                    <a:ext cx="1508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3"/>
          <p:cNvGraphicFramePr/>
          <p:nvPr/>
        </p:nvGraphicFramePr>
        <p:xfrm>
          <a:off x="2643120" y="200664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200664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8"/>
          <p:cNvGraphicFramePr/>
          <p:nvPr/>
        </p:nvGraphicFramePr>
        <p:xfrm>
          <a:off x="571680" y="2416320"/>
          <a:ext cx="145404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680" y="2416320"/>
                    <a:ext cx="14540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10"/>
          <p:cNvGraphicFramePr/>
          <p:nvPr/>
        </p:nvGraphicFramePr>
        <p:xfrm>
          <a:off x="3929040" y="2452680"/>
          <a:ext cx="18367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9040" y="2452680"/>
                    <a:ext cx="1836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13"/>
          <p:cNvGraphicFramePr/>
          <p:nvPr/>
        </p:nvGraphicFramePr>
        <p:xfrm>
          <a:off x="6215040" y="2925720"/>
          <a:ext cx="150804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3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15040" y="2925720"/>
                    <a:ext cx="1508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5"/>
          <p:cNvGraphicFramePr/>
          <p:nvPr/>
        </p:nvGraphicFramePr>
        <p:xfrm>
          <a:off x="4357800" y="3435480"/>
          <a:ext cx="352440" cy="422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5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57800" y="343548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6"/>
          <p:cNvGraphicFramePr/>
          <p:nvPr/>
        </p:nvGraphicFramePr>
        <p:xfrm>
          <a:off x="4857840" y="3960720"/>
          <a:ext cx="1342800" cy="540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57840" y="3960720"/>
                    <a:ext cx="134280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17"/>
          <p:cNvGraphicFramePr/>
          <p:nvPr/>
        </p:nvGraphicFramePr>
        <p:xfrm>
          <a:off x="6424560" y="3954600"/>
          <a:ext cx="1719360" cy="474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0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24560" y="3954600"/>
                    <a:ext cx="17193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56760" y="1599840"/>
            <a:ext cx="83581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  –                          базис в  евклидовом пространстве        .  Тогда   векторов, вычисленных по форму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разуют  ортогональный базис  в  евклидо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е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 ОРТОГОНАЛИЗАЦИИ  БАЗИС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3" name="Object 5"/>
          <p:cNvGraphicFramePr/>
          <p:nvPr/>
        </p:nvGraphicFramePr>
        <p:xfrm>
          <a:off x="2257560" y="1785960"/>
          <a:ext cx="156528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1785960"/>
                    <a:ext cx="1565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3"/>
          <p:cNvGraphicFramePr/>
          <p:nvPr/>
        </p:nvGraphicFramePr>
        <p:xfrm>
          <a:off x="2928960" y="243540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243540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8"/>
          <p:cNvGraphicFramePr/>
          <p:nvPr/>
        </p:nvGraphicFramePr>
        <p:xfrm>
          <a:off x="1571760" y="3429000"/>
          <a:ext cx="100476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1760" y="3429000"/>
                    <a:ext cx="10047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Object 10"/>
          <p:cNvGraphicFramePr/>
          <p:nvPr/>
        </p:nvGraphicFramePr>
        <p:xfrm>
          <a:off x="3214800" y="3143160"/>
          <a:ext cx="2184120" cy="88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14800" y="3143160"/>
                    <a:ext cx="21841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12"/>
          <p:cNvGraphicFramePr/>
          <p:nvPr/>
        </p:nvGraphicFramePr>
        <p:xfrm>
          <a:off x="6000840" y="3286080"/>
          <a:ext cx="1644480" cy="56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00840" y="3286080"/>
                    <a:ext cx="1644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14"/>
          <p:cNvGraphicFramePr/>
          <p:nvPr/>
        </p:nvGraphicFramePr>
        <p:xfrm>
          <a:off x="1571760" y="4071960"/>
          <a:ext cx="3098520" cy="903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8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71760" y="4071960"/>
                    <a:ext cx="309852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17"/>
          <p:cNvGraphicFramePr/>
          <p:nvPr/>
        </p:nvGraphicFramePr>
        <p:xfrm>
          <a:off x="2643120" y="5506920"/>
          <a:ext cx="352440" cy="42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0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43120" y="550692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28760" y="1356840"/>
            <a:ext cx="82152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цесс построения указанным спосо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ртогонального базиса                            по некотор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анному                        базису   называется  процесс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ртогонализации  Шмид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ормированием вектора      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замена его вектором         ,  имеющим длину,  равную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 ОРТОГОНАЛИЗАЦИИ  БАЗИС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Object 3"/>
          <p:cNvGraphicFramePr/>
          <p:nvPr/>
        </p:nvGraphicFramePr>
        <p:xfrm>
          <a:off x="4214880" y="2286000"/>
          <a:ext cx="15080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4880" y="2286000"/>
                    <a:ext cx="1508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5"/>
          <p:cNvGraphicFramePr/>
          <p:nvPr/>
        </p:nvGraphicFramePr>
        <p:xfrm>
          <a:off x="1928880" y="2928960"/>
          <a:ext cx="15652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2928960"/>
                    <a:ext cx="1565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6429240" y="4214880"/>
          <a:ext cx="284400" cy="32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9240" y="4214880"/>
                    <a:ext cx="28440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Object 7"/>
          <p:cNvGraphicFramePr/>
          <p:nvPr/>
        </p:nvGraphicFramePr>
        <p:xfrm>
          <a:off x="3714840" y="4500720"/>
          <a:ext cx="393480" cy="92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14840" y="4500720"/>
                    <a:ext cx="393480" cy="92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28760" y="1599840"/>
            <a:ext cx="82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яснить, являются ли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о зависим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ставим матрицу, у которой, наприм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троками являются векторы                        .  Приведем ее к ступенчатому ви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Object 2"/>
          <p:cNvGraphicFramePr/>
          <p:nvPr/>
        </p:nvGraphicFramePr>
        <p:xfrm>
          <a:off x="500040" y="2214720"/>
          <a:ext cx="81090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214720"/>
                    <a:ext cx="8109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3"/>
          <p:cNvGraphicFramePr/>
          <p:nvPr/>
        </p:nvGraphicFramePr>
        <p:xfrm>
          <a:off x="4714920" y="4071960"/>
          <a:ext cx="18651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4071960"/>
                    <a:ext cx="18651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00040" y="1428480"/>
            <a:ext cx="82152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4"/>
          <p:cNvGraphicFramePr/>
          <p:nvPr/>
        </p:nvGraphicFramePr>
        <p:xfrm>
          <a:off x="1000080" y="1457280"/>
          <a:ext cx="72309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457280"/>
                    <a:ext cx="72309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33" name="Прямая со стрелкой 22"/>
          <p:cNvCxnSpPr/>
          <p:nvPr/>
        </p:nvCxnSpPr>
        <p:spPr>
          <a:xfrm flipH="1" flipV="1">
            <a:off x="2626920" y="2994840"/>
            <a:ext cx="286560" cy="2520"/>
          </a:xfrm>
          <a:prstGeom prst="straightConnector1">
            <a:avLst/>
          </a:prstGeom>
          <a:ln w="3492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434" name="Прямая со стрелкой 26"/>
          <p:cNvCxnSpPr/>
          <p:nvPr/>
        </p:nvCxnSpPr>
        <p:spPr>
          <a:xfrm flipH="1" flipV="1">
            <a:off x="2642400" y="2142360"/>
            <a:ext cx="500760" cy="2520"/>
          </a:xfrm>
          <a:prstGeom prst="straightConnector1">
            <a:avLst/>
          </a:prstGeom>
          <a:ln w="3492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435" name="Прямая со стрелкой 27"/>
          <p:cNvCxnSpPr/>
          <p:nvPr/>
        </p:nvCxnSpPr>
        <p:spPr>
          <a:xfrm flipH="1" flipV="1">
            <a:off x="2643120" y="2571480"/>
            <a:ext cx="643320" cy="2160"/>
          </a:xfrm>
          <a:prstGeom prst="straightConnector1">
            <a:avLst/>
          </a:prstGeom>
          <a:ln w="34920">
            <a:solidFill>
              <a:srgbClr val="cc0066"/>
            </a:solidFill>
            <a:miter/>
            <a:tailEnd len="med" type="arrow" w="med"/>
          </a:ln>
        </p:spPr>
      </p:cxnSp>
      <p:sp>
        <p:nvSpPr>
          <p:cNvPr id="436" name="Прямая соединительная линия 29"/>
          <p:cNvSpPr/>
          <p:nvPr/>
        </p:nvSpPr>
        <p:spPr>
          <a:xfrm>
            <a:off x="3071880" y="1785960"/>
            <a:ext cx="0" cy="35712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32"/>
          <p:cNvSpPr/>
          <p:nvPr/>
        </p:nvSpPr>
        <p:spPr>
          <a:xfrm flipH="1">
            <a:off x="3284640" y="1714680"/>
            <a:ext cx="1440" cy="85716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37"/>
          <p:cNvSpPr/>
          <p:nvPr/>
        </p:nvSpPr>
        <p:spPr>
          <a:xfrm flipH="1">
            <a:off x="2928960" y="1785960"/>
            <a:ext cx="1440" cy="121428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6"/>
          <p:cNvSpPr/>
          <p:nvPr/>
        </p:nvSpPr>
        <p:spPr>
          <a:xfrm>
            <a:off x="571680" y="3857760"/>
            <a:ext cx="814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Ранг системы векторов   равен дв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твет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: Векторы линейно зависим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457720" cy="1403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2469960" cy="12603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3"/>
          <a:stretch/>
        </p:blipFill>
        <p:spPr>
          <a:xfrm>
            <a:off x="6227640" y="1700280"/>
            <a:ext cx="1819440" cy="11523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8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9" descr=""/>
          <p:cNvPicPr/>
          <p:nvPr/>
        </p:nvPicPr>
        <p:blipFill>
          <a:blip r:embed="rId4"/>
          <a:stretch/>
        </p:blipFill>
        <p:spPr>
          <a:xfrm>
            <a:off x="395280" y="3124080"/>
            <a:ext cx="7835760" cy="1160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4" descr=""/>
          <p:cNvPicPr/>
          <p:nvPr/>
        </p:nvPicPr>
        <p:blipFill>
          <a:blip r:embed="rId5"/>
          <a:stretch/>
        </p:blipFill>
        <p:spPr>
          <a:xfrm>
            <a:off x="395280" y="4376880"/>
            <a:ext cx="7658280" cy="6490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Объект 11"/>
              <p:cNvSpPr txBox="1"/>
              <p:nvPr/>
            </p:nvSpPr>
            <p:spPr>
              <a:xfrm>
                <a:off x="1547640" y="4799160"/>
                <a:ext cx="24958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Прямоугольник 12"/>
          <p:cNvSpPr/>
          <p:nvPr/>
        </p:nvSpPr>
        <p:spPr>
          <a:xfrm>
            <a:off x="468360" y="53132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е. координаты данного разложения удовлетворяют линейной системе алгебраических урав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Объект 5"/>
              <p:cNvSpPr txBox="1"/>
              <p:nvPr/>
            </p:nvSpPr>
            <p:spPr>
              <a:xfrm>
                <a:off x="900000" y="1628640"/>
                <a:ext cx="2170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Объект 7"/>
              <p:cNvSpPr txBox="1"/>
              <p:nvPr/>
            </p:nvSpPr>
            <p:spPr>
              <a:xfrm>
                <a:off x="3276720" y="1628640"/>
                <a:ext cx="234468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Объект 9"/>
              <p:cNvSpPr txBox="1"/>
              <p:nvPr/>
            </p:nvSpPr>
            <p:spPr>
              <a:xfrm>
                <a:off x="5796000" y="1700280"/>
                <a:ext cx="25891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0" name="Picture 7" descr=""/>
          <p:cNvPicPr/>
          <p:nvPr/>
        </p:nvPicPr>
        <p:blipFill>
          <a:blip r:embed="rId1"/>
          <a:stretch/>
        </p:blipFill>
        <p:spPr>
          <a:xfrm>
            <a:off x="428760" y="2817720"/>
            <a:ext cx="5151240" cy="34196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Объект 13"/>
              <p:cNvSpPr txBox="1"/>
              <p:nvPr/>
            </p:nvSpPr>
            <p:spPr>
              <a:xfrm>
                <a:off x="5724360" y="4905360"/>
                <a:ext cx="2787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14200" y="1341360"/>
            <a:ext cx="8715600" cy="4332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rcRect l="-2059" t="0" r="-2059" b="0"/>
          <a:stretch/>
        </p:blipFill>
        <p:spPr>
          <a:xfrm>
            <a:off x="611280" y="1484280"/>
            <a:ext cx="7561080" cy="2089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468360" y="3286080"/>
            <a:ext cx="7056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488360" cy="22352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7632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Объект 5"/>
              <p:cNvSpPr txBox="1"/>
              <p:nvPr/>
            </p:nvSpPr>
            <p:spPr>
              <a:xfrm>
                <a:off x="2700360" y="1484280"/>
                <a:ext cx="35956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75" name="Picture 5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7993080" cy="180036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Объект 7"/>
              <p:cNvSpPr txBox="1"/>
              <p:nvPr/>
            </p:nvSpPr>
            <p:spPr>
              <a:xfrm>
                <a:off x="971640" y="4653000"/>
                <a:ext cx="19508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2"/>
          <p:cNvSpPr/>
          <p:nvPr/>
        </p:nvSpPr>
        <p:spPr>
          <a:xfrm>
            <a:off x="3419640" y="49388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твет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Объект 10"/>
              <p:cNvSpPr txBox="1"/>
              <p:nvPr/>
            </p:nvSpPr>
            <p:spPr>
              <a:xfrm>
                <a:off x="4859280" y="4686480"/>
                <a:ext cx="19512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137440" cy="468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7"/>
          <p:cNvGraphicFramePr/>
          <p:nvPr/>
        </p:nvGraphicFramePr>
        <p:xfrm>
          <a:off x="428760" y="2214720"/>
          <a:ext cx="2889000" cy="52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2214720"/>
                    <a:ext cx="288900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3714840" y="2238480"/>
          <a:ext cx="2879640" cy="47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14840" y="2238480"/>
                    <a:ext cx="28796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13"/>
          <p:cNvGraphicFramePr/>
          <p:nvPr/>
        </p:nvGraphicFramePr>
        <p:xfrm>
          <a:off x="428760" y="2928960"/>
          <a:ext cx="2595600" cy="5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8760" y="2928960"/>
                    <a:ext cx="25956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15"/>
          <p:cNvGraphicFramePr/>
          <p:nvPr/>
        </p:nvGraphicFramePr>
        <p:xfrm>
          <a:off x="3635280" y="3068640"/>
          <a:ext cx="2741760" cy="476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35280" y="3068640"/>
                    <a:ext cx="27417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Box 16"/>
          <p:cNvSpPr/>
          <p:nvPr/>
        </p:nvSpPr>
        <p:spPr>
          <a:xfrm>
            <a:off x="357120" y="3857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Пример.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Множество всех векторов плоскости или трехмерного пространства является линейным пространством относительно операций сложения дву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екторов и умножения векторов на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8215200" cy="2557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428760" y="4071960"/>
            <a:ext cx="8143920" cy="1303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4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инейная зависимость вект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599840"/>
            <a:ext cx="8177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                      линейного векторного пространства          называю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нейно зависимым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если существуют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 не все равные нулю, такие, что 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                      (1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линейного векторного пространства  называю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нейно независимыми,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полнение равенства (1) возможно только при услов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"/>
          <p:cNvGraphicFramePr/>
          <p:nvPr/>
        </p:nvGraphicFramePr>
        <p:xfrm>
          <a:off x="4786200" y="1643040"/>
          <a:ext cx="130680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1643040"/>
                    <a:ext cx="1306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3"/>
          <p:cNvSpPr/>
          <p:nvPr/>
        </p:nvSpPr>
        <p:spPr>
          <a:xfrm>
            <a:off x="4449600" y="10584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4643280" y="1973160"/>
          <a:ext cx="38448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73160"/>
                    <a:ext cx="3844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1143000" y="2714760"/>
          <a:ext cx="14907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714760"/>
                    <a:ext cx="14907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8"/>
          <p:cNvGraphicFramePr/>
          <p:nvPr/>
        </p:nvGraphicFramePr>
        <p:xfrm>
          <a:off x="1214280" y="3571920"/>
          <a:ext cx="36655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4280" y="3571920"/>
                    <a:ext cx="3665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10"/>
          <p:cNvGraphicFramePr/>
          <p:nvPr/>
        </p:nvGraphicFramePr>
        <p:xfrm>
          <a:off x="5357880" y="5286240"/>
          <a:ext cx="295272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5286240"/>
                    <a:ext cx="29527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3"/>
          <p:cNvGraphicFramePr/>
          <p:nvPr/>
        </p:nvGraphicFramePr>
        <p:xfrm>
          <a:off x="4643280" y="4000680"/>
          <a:ext cx="130680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3280" y="4000680"/>
                    <a:ext cx="13068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28760" y="135720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Теорема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истема  из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векторов    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пространства   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является линейно независимой тогда и только тогда, когда матрица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,  столбцы  (строки)  которой составлены из этих векторов, имеет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нг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Следств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истема, состоящая более чем из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n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екторов пространства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,  линейно зависим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"/>
          <p:cNvGraphicFramePr/>
          <p:nvPr/>
        </p:nvGraphicFramePr>
        <p:xfrm>
          <a:off x="6386400" y="1643040"/>
          <a:ext cx="16239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6400" y="1643040"/>
                    <a:ext cx="16239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7"/>
          <p:cNvGraphicFramePr/>
          <p:nvPr/>
        </p:nvGraphicFramePr>
        <p:xfrm>
          <a:off x="3214800" y="2143080"/>
          <a:ext cx="59364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2143080"/>
                    <a:ext cx="5936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8"/>
          <p:cNvGraphicFramePr/>
          <p:nvPr/>
        </p:nvGraphicFramePr>
        <p:xfrm>
          <a:off x="4572000" y="5000760"/>
          <a:ext cx="59364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5000760"/>
                    <a:ext cx="5936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4200" y="1285560"/>
            <a:ext cx="8358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           произвольное линейное простра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ая независимая система элементов                     пространства         называе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азисо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этого пространства, если любой элемент      пространства         является линейной комбинацией этих элементов, т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де                           некоторые числа называемые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ординатами элемента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относительно базис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643040" y="1428840"/>
          <a:ext cx="63972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1428840"/>
                    <a:ext cx="639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"/>
          <p:cNvGraphicFramePr/>
          <p:nvPr/>
        </p:nvGraphicFramePr>
        <p:xfrm>
          <a:off x="2357280" y="2500200"/>
          <a:ext cx="145440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7280" y="2500200"/>
                    <a:ext cx="14544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6"/>
          <p:cNvGraphicFramePr/>
          <p:nvPr/>
        </p:nvGraphicFramePr>
        <p:xfrm>
          <a:off x="6072120" y="257796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72120" y="257796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5"/>
          <p:cNvGraphicFramePr/>
          <p:nvPr/>
        </p:nvGraphicFramePr>
        <p:xfrm>
          <a:off x="8072280" y="3214800"/>
          <a:ext cx="32076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72280" y="321480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2714760" y="3643200"/>
          <a:ext cx="352440" cy="422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14760" y="364320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7"/>
          <p:cNvGraphicFramePr/>
          <p:nvPr/>
        </p:nvGraphicFramePr>
        <p:xfrm>
          <a:off x="3803760" y="4143240"/>
          <a:ext cx="405432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3760" y="4143240"/>
                    <a:ext cx="4054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8"/>
          <p:cNvGraphicFramePr/>
          <p:nvPr/>
        </p:nvGraphicFramePr>
        <p:xfrm>
          <a:off x="1214280" y="4786200"/>
          <a:ext cx="1789200" cy="505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14280" y="4786200"/>
                    <a:ext cx="17892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9"/>
          <p:cNvGraphicFramePr/>
          <p:nvPr/>
        </p:nvGraphicFramePr>
        <p:xfrm>
          <a:off x="4572000" y="5429160"/>
          <a:ext cx="320760" cy="35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0" y="542916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0"/>
          <p:cNvGraphicFramePr/>
          <p:nvPr/>
        </p:nvGraphicFramePr>
        <p:xfrm>
          <a:off x="3571920" y="5786280"/>
          <a:ext cx="1809720" cy="59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71920" y="5786280"/>
                    <a:ext cx="180972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85480" y="135720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венство                                                        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ложением элемента         по базис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Пример 1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линейном пространстве  всех векторов плоскости любые два неколлинеарные вектора являются базисом эт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Пример 2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линейном пространстве  всех векторов пространства любые три  некомпланарные вектора являются базисом эт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Object 1"/>
          <p:cNvGraphicFramePr/>
          <p:nvPr/>
        </p:nvGraphicFramePr>
        <p:xfrm>
          <a:off x="2428920" y="1428840"/>
          <a:ext cx="405432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428840"/>
                    <a:ext cx="4054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4071960" y="2143080"/>
          <a:ext cx="32076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214308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6143760" y="2071800"/>
          <a:ext cx="153828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3760" y="2071800"/>
                    <a:ext cx="1538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40:02Z</dcterms:created>
  <dc:creator>к.502</dc:creator>
  <dc:description/>
  <dc:language>en-US</dc:language>
  <cp:lastModifiedBy>квм</cp:lastModifiedBy>
  <dcterms:modified xsi:type="dcterms:W3CDTF">2014-10-24T08:08:38Z</dcterms:modified>
  <cp:revision>136</cp:revision>
  <dc:subject/>
  <dc:title>Определители второго и третьего порядка.</dc:title>
</cp:coreProperties>
</file>